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17.png" ContentType="image/png"/>
  <Override PartName="/ppt/media/image8.png" ContentType="image/png"/>
  <Override PartName="/ppt/media/image16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A7F9-4CAC-4ADB-B26F-FE4AFCA39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480A7-B324-47E7-B799-BA03463D9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C0E1-4247-4069-9FB7-AB914B44D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FF4CE-7E92-44AB-8987-FCCEF6F33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C194C-3DB8-4E04-93B8-39FC41D2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34A37-F00A-45E7-82BD-0BCE14D9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2E5DD-BB94-4923-8027-ECC7097F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9AD9D-B26C-4DEB-BE28-AC9F147E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6DADA-F822-4062-B364-A8D8911D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D16C4-C7EF-4FFA-A6B7-75093400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5FF8E-D2F9-4BAE-A6E9-76650FAE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0993-2E14-42EE-B636-098B28F05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83828-4F4E-46FA-A657-7E0A8306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452FE-BAEC-4C0B-965D-A5AB4FD2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492AE-CC8D-421F-B622-7B18FB8F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7035F-F34B-41E1-BFB4-7A4C1D11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9FDE3-8B74-4812-A5D1-2798C1E7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0659C-EB3A-4445-B3A9-1B856A53E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70D9-34E1-4AE4-8238-3C64D6B14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5ECF8-6B52-49FC-9362-5C4C53D78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299A9-6499-4F6C-987D-99972A1CF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B670-7D1C-4767-9111-357A628B6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18F7A-C673-4E36-9927-787FB92C3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E3AD4-E982-4E2C-BE85-E1BBB9024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39CA-A5EA-4FDD-AF48-795B00AB52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BD41-D647-40F7-A500-28C64E7C9DF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3904-A329-46DB-9553-A7658B9FB7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acton School Distric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ceptable Use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Have to Sign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 you might as well know what it i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8351" t="0" r="0" b="0"/>
          <a:stretch/>
        </p:blipFill>
        <p:spPr>
          <a:xfrm>
            <a:off x="0" y="0"/>
            <a:ext cx="1981080" cy="1712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C5A5C-5CD0-4B7A-B37B-F12295C0BC5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F3BFB8-99F2-4B24-87D7-1D1232DDC7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Example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acceptable 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abusive or otherwise objectionable language in either public or private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tening, harassing, insulting or attacking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ing anonymous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ing undue congestion of the network through lengthy downloads of files, or by engaging in idle activities i.e. wast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ting resources- remember our Metaphor lesson… time is mone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7391520" y="0"/>
            <a:ext cx="1500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FDB6-ABAC-4709-866F-8491C61A35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Example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acceptable 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ndalizing the data of another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ing to someone else’s folder is not allowed but there are other ways to corrup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one’s self with another person’s n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attempt to take an Accelerated Reader test for another stu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an account or password of another user without autho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cludes any attempt to log onto another person’s Accelerated Reader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ft of data, equipment, or intellectual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llectual property includes information you gather on the Internet- you must cite everyth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7923240" y="0"/>
            <a:ext cx="1220760" cy="1523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523880" cy="12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4F5B-5C0A-4621-A153-5C28FFCFB4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Pa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 web pages and information residing on the Methacton Website shall be in support of the District’s mis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to prepare students for meaningful participation in an increasingly diverse world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chnology will be integrated into the teaching and learning process to prepare students to adapt to a changing enviro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udents will learn to use web pages that are educationally appropriate and will learn to choose the best resources for the subjects they are study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random image"/>
          <p:cNvPicPr/>
          <p:nvPr/>
        </p:nvPicPr>
        <p:blipFill>
          <a:blip r:embed="rId3"/>
          <a:stretch/>
        </p:blipFill>
        <p:spPr>
          <a:xfrm>
            <a:off x="7086600" y="5638680"/>
            <a:ext cx="1857240" cy="879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2F960-8335-4F04-91F3-9E25DC3AE1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gning the A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you and your parents must now sign the Acceptable Use Police that is being sent home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urn it to Mrs. Conger as soon as possible.  It will be kept on file in the libr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1A642-CE4F-4EDE-9B1D-6BDF4D74A7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users of the District’s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priate use of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ct Library Standards indicate that students must know how to properly use district equipment and network resources and must use them appropriat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random image"/>
          <p:cNvPicPr/>
          <p:nvPr/>
        </p:nvPicPr>
        <p:blipFill>
          <a:blip r:embed="rId2"/>
          <a:stretch/>
        </p:blipFill>
        <p:spPr>
          <a:xfrm>
            <a:off x="7086600" y="5638680"/>
            <a:ext cx="1704960" cy="806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D6E4-5CC9-4C26-89FA-5A360FFF25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horized Users- who has to sign the Acceptable Use Policy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 who works for Methacton School Distri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random image"/>
          <p:cNvPicPr/>
          <p:nvPr/>
        </p:nvPicPr>
        <p:blipFill>
          <a:blip r:embed="rId3"/>
          <a:stretch/>
        </p:blipFill>
        <p:spPr>
          <a:xfrm>
            <a:off x="7210440" y="5715000"/>
            <a:ext cx="1933560" cy="914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feteria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Board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one using Methacton School District’s Internet and e-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583E-4BF9-48A8-8703-B79957AE2C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v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ptable uses of the network are activities which support learning and teac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the Methacton School District network services is a privilege, not a righ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adhere to the Acceptable Use Policy and administrative procedures may result in suspension or revocation of network access. Disciplinary action or criminal penalties may also resu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2286000" cy="10810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C092-7C44-442D-8C81-7C95877889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nauthorized Us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15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legal or Non-authorized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mes and sites not approved by the district, your teacher, or Mrs. Co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Infrin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y not use pictures or information from the Internet without proper c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cene Mate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turn off the monitor then you must call Mrs. Conger or another adult if anything unusual pops up on your computer while you are doing sear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the proper search engines and techniques will help alleviate this potential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random image"/>
          <p:cNvPicPr/>
          <p:nvPr/>
        </p:nvPicPr>
        <p:blipFill>
          <a:blip r:embed="rId5"/>
          <a:stretch/>
        </p:blipFill>
        <p:spPr>
          <a:xfrm>
            <a:off x="6934320" y="5791320"/>
            <a:ext cx="1957320" cy="927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8E9BE-9DB4-4A70-99A2-999FCF6065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authorized Us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ay not buy or sell on the Internet while at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uses and Sabo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cellaneous Acts that Wast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ust ask permission to pr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is a valuable resource- use it wisely while you are using the Internet to do resea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ives Mrs. Conger permission to send you back to your class if you are not on appropriate research web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315200" y="5154480"/>
            <a:ext cx="1828800" cy="170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30B8-AE89-46EF-8F91-2AC4BECDC7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ceptable U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ect private information such as addresses, phone numbers, or passwor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Mrs. Conger to change your Accelerated Reader Pass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ppropriate language. This applies to public messages,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ivat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messages, and material posted on Web pages as well as any word you use in a 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pect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opyright la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the computers for their intended educational purposes on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that use of the computer or the network for non-educational purposes is strictly prohibi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random image"/>
          <p:cNvPicPr/>
          <p:nvPr/>
        </p:nvPicPr>
        <p:blipFill>
          <a:blip r:embed="rId6"/>
          <a:stretch/>
        </p:blipFill>
        <p:spPr>
          <a:xfrm>
            <a:off x="7210440" y="5943600"/>
            <a:ext cx="1933560" cy="914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3ECB-256D-4548-9361-942191CEE0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s of Unacceptable 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maging computers, peripherals, computer systems, or computer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you break it, you will have to pay for it and may be prohibited from using school compu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ing access to or trespassing in unauthorized files, folders, or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ve things in your own folder, do not go into another student’s folder or any other area of the net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network for commercial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ing inappropriate Internet web sites or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ou will be asked to leave the library if you are on a site that is not approved for educational u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006F1-B52E-4CCA-A9A5-2F3F6FD054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s of Unacceptable 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yance or harassment of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s includes audio, you may not turn on the library computer’s sound unless you ask Mrs. Cong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yber-bullying will not be tolera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network for any illegal activity, including violation of copyright or other licenses or con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s, copyright is a big deal, if you use pictures or sounds from the Internet, be ready to cite the source just like you do when you get information from a book or websi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ing chat rooms, instant messaging or blogging which are not a part of a class activity directly under the supervision of a teacher or is educationally in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puters are for educational purposes only!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61F3-EB9A-421C-8E64-99B56A09B8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30:38Z</dcterms:created>
  <dc:creator>bschlegel</dc:creator>
  <dc:description/>
  <dc:language>en-US</dc:language>
  <cp:lastModifiedBy>default</cp:lastModifiedBy>
  <dcterms:modified xsi:type="dcterms:W3CDTF">2010-02-18T21:43:00Z</dcterms:modified>
  <cp:revision>32</cp:revision>
  <dc:subject/>
  <dc:title>Webster Central School District Acceptable Use Regulation</dc:title>
</cp:coreProperties>
</file>